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CFAB-84C6-4CC0-BC56-93264965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AF4F-EACE-4354-A47D-D5D86AFF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70A9-98EF-4E5F-BE23-B905C30A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A184-5321-4C9F-9D82-BD867E29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4639-1A95-43AD-8F97-FFC647BB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DAF9-8E5A-459D-9DEF-F9D4C15F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3A20-CD7D-4E93-B69B-5082DF82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B10E-786C-469E-ADFE-A19D68B9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6286-BAE1-49FF-AD17-D6B5B40D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435C-94B7-4BF1-A8FF-BB52EB2D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731F-08DF-40BD-8804-7A16DCC2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DE2-0B15-42E7-B13B-178B6DB6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3CC8-CC3A-4ECB-BE33-00E678DA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07C7-3283-40A3-A575-254F5206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28A1-C436-4DBB-854F-AD93489D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8CAB-75E7-4318-AE4C-38292E85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AE2D-5845-4163-8CBA-D67DF0C0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EAF0-4C8D-4E37-ABDC-277EB809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71E8-025B-44CB-8960-707BFEE6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E385-0170-4BFB-89DF-068E77D9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2131-C656-486E-8ABA-AE191741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2C00-6E00-4CCB-B62B-26975FF6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CD28-7A77-45FD-8B4B-D1BD528D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3BED-F17F-4490-8004-D95258FF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AF05-1D7E-46C1-921B-07D98E6A5F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750B-CEAF-4B47-98A7-999D2B68E5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onquistador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:Matt Lyd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s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live in Central Mexico in the vall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capital is Tenochtitl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Polytheistic and believed in many g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562720" y="2668680"/>
            <a:ext cx="2286000" cy="20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lived in South America, in the Andes Mts,Per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capital was Cuz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polytheistic=belief in many g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4120" y="2541600"/>
            <a:ext cx="2361960" cy="22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lived on the Mexican coast of Yucatan Peninsu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han 1 major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Polytheis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257800" y="2516040"/>
            <a:ext cx="245592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ortez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tez and his crew where not poly theist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tez became the prisoner from the Aztec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 Cortez returned tons of Spanish soldiers where kill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izarr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zarro was another Spanish Conquista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zarro began his quest for the Inca empire but fail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532 Pizarro finally arrived in Caxamar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How did the Spanish conquistadors change Central and South America forever?</a:t>
            </a:r>
            <a:br>
              <a:rPr sz="32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everybody speaks English or spanish but not back th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body is polytheistic any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itions have disappea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14:36:22Z</dcterms:created>
  <dc:creator>jklib</dc:creator>
  <dc:description/>
  <dc:language>en-US</dc:language>
  <cp:lastModifiedBy>h</cp:lastModifiedBy>
  <dcterms:modified xsi:type="dcterms:W3CDTF">2011-11-21T15:52:12Z</dcterms:modified>
  <cp:revision>3</cp:revision>
  <dc:subject/>
  <dc:title>Conquistadors</dc:title>
</cp:coreProperties>
</file>